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21A-099C-47A2-9521-512C1CFD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DF1-E6B5-4E0A-A514-BD34A43E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457-3F63-410E-BA0F-C778A740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CF9-A6D6-4560-B106-79174C6C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895A-5F28-4EB1-B27D-33231B33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632D-A077-4A37-A920-2612D3A4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287E-CE57-479B-9966-EC00C9A7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57FF-3A9E-4DE9-9464-5039ECF9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44BC-1268-4B4A-9236-CE17267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BD3C-6306-473B-9978-6EB40A1C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A847-7C9D-4D33-881A-9E173A31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D9C-7FD5-496A-AD71-BBAAB9E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0F02-03B2-46B9-84FC-1A18553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266D-2DF1-490F-904A-650784F5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B2A-6970-4EC6-B41C-7115397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FD6B-236E-48DD-9264-D1BBD8B1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197E-7D46-446E-8B8B-353FDFA0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969-80F9-4E00-90C6-C0AF73A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BCC-F9B7-4707-A1E1-5AC5527F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9B2-52FF-44C5-BF16-63364F2A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8DC-806A-41D1-B14E-E77F0236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AA6-7206-44AC-9DCE-A04A0B7A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251-5AE2-4DB9-A6EE-9BCA42A6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CEA-82CE-4630-AA79-BF707B1D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56F0-09BF-4246-A75C-E0A111643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B736-E4F8-40BE-93FE-5DB2CD19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wx.prenhall.com/bookbind/pubbooks/hillchem3/medialib/media_portfolio/text_images/CH02/FG02_09.JPG&amp;imgrefurl=http://cwx.prenhall.com/bookbind/pubbooks/hillchem3/medialib/media_portfolio/02.html&amp;h=600&amp;w=580&amp;sz=80&amp;hl=en&amp;start=1&amp;tbnid=N44Lp3ViO41xxM:&amp;tbnh=135&amp;tbnw=131&amp;prev=/images%3Fq%3Datoms%2Bmolecules%2Bformula%2Bunits%26gbv%3D2%26svnum%3D10%26hl%3Den%26safe%3Dof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hemical Quantities - </a:t>
            </a:r>
            <a:br>
              <a:rPr sz="4100"/>
            </a:b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oles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411480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olor_mole"/>
          <p:cNvPicPr/>
          <p:nvPr/>
        </p:nvPicPr>
        <p:blipFill>
          <a:blip r:embed="rId1"/>
          <a:stretch/>
        </p:blipFill>
        <p:spPr>
          <a:xfrm>
            <a:off x="3657600" y="2133720"/>
            <a:ext cx="14479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nsity, Volume and Mass (solids and liquids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9" name="Content Placeholder 2" descr=""/>
          <p:cNvPicPr/>
          <p:nvPr/>
        </p:nvPicPr>
        <p:blipFill>
          <a:blip r:embed="rId1"/>
          <a:stretch/>
        </p:blipFill>
        <p:spPr>
          <a:xfrm>
            <a:off x="628560" y="1616040"/>
            <a:ext cx="7912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ll Roads Go Through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76184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lculations between mass/particles, particles/volume, and mass/volume are possible by first calculating the number of mo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molemap"/>
          <p:cNvPicPr/>
          <p:nvPr/>
        </p:nvPicPr>
        <p:blipFill>
          <a:blip r:embed="rId1"/>
          <a:stretch/>
        </p:blipFill>
        <p:spPr>
          <a:xfrm>
            <a:off x="1560600" y="30258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40384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@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mage002"/>
          <p:cNvPicPr/>
          <p:nvPr/>
        </p:nvPicPr>
        <p:blipFill>
          <a:blip r:embed="rId1"/>
          <a:stretch/>
        </p:blipFill>
        <p:spPr>
          <a:xfrm>
            <a:off x="380880" y="91440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304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imately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cent by Mass (Percent Composition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centage of each element in the mass of a compound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each element in sodium phosphat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mass of Mg in 97.4g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n Empirical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st whole number ratio of elements in a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% composition and assume 100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by MM of each element to get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all by lowest number of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be Multi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empirical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is determined to be 36.4% nitrogen and 63.16% oxygen, what is the empirical formu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empirical formula of a compound that is 82.6% Fe &amp; 17.4% C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empirical formula of a compound that is 72.4% Fe &amp; 27.6% 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 Molecular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ltiple of empirical formula that accurately shows number of each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mass of empirical formula (EF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MM of the compound by the EF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y empirical formula by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molecular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pound has a molar mass of 110.0 g/mol.  What is the molecular formula if it is 65.45% C, 5.45% H, and 29.09% 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und has a molar mass of 110.0 g/mol.  What is the molecular formula if it is 65.45% C, 5.45% H, and 29.09% 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molecular formula of a compound that has an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gfm = 146 g/m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E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Choice  and.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egant Problem Solv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are counted in mo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s of representative partic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- smallest unit of an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ecule- smallest unit of a molecular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 Unit- smallest unit of an ionic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FG02_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00600"/>
            <a:ext cx="1765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y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Picture 5" descr="avogadro.jpg (12825 bytes)"/>
          <p:cNvPicPr/>
          <p:nvPr/>
        </p:nvPicPr>
        <p:blipFill>
          <a:blip r:embed="rId1"/>
          <a:stretch/>
        </p:blipFill>
        <p:spPr>
          <a:xfrm>
            <a:off x="1495440" y="2254320"/>
            <a:ext cx="230508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are inconceivably sm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vogadro’s Nu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6.02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number of carbon-12 atoms in 12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derstanding Re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+  3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2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cule of nitrogen and 3 molecules of hydrogen produce 2 molecules of nitrogen trihydr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of nitrogen molecules and 3 moles of hydrogen molecules produce 2 moles of nitrogen trihydride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043"/>
          <p:cNvPicPr/>
          <p:nvPr/>
        </p:nvPicPr>
        <p:blipFill>
          <a:blip r:embed="rId1"/>
          <a:stretch/>
        </p:blipFill>
        <p:spPr>
          <a:xfrm>
            <a:off x="2895480" y="2133720"/>
            <a:ext cx="1971720" cy="51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m002"/>
          <p:cNvPicPr/>
          <p:nvPr/>
        </p:nvPicPr>
        <p:blipFill>
          <a:blip r:embed="rId2">
            <a:grayscl/>
          </a:blip>
          <a:stretch/>
        </p:blipFill>
        <p:spPr>
          <a:xfrm>
            <a:off x="2057400" y="281952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m002"/>
          <p:cNvPicPr/>
          <p:nvPr/>
        </p:nvPicPr>
        <p:blipFill>
          <a:blip r:embed="rId3"/>
          <a:stretch/>
        </p:blipFill>
        <p:spPr>
          <a:xfrm>
            <a:off x="2057400" y="1752480"/>
            <a:ext cx="838080" cy="52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m002"/>
          <p:cNvPicPr/>
          <p:nvPr/>
        </p:nvPicPr>
        <p:blipFill>
          <a:blip r:embed="rId4">
            <a:grayscl/>
          </a:blip>
          <a:stretch/>
        </p:blipFill>
        <p:spPr>
          <a:xfrm>
            <a:off x="2057400" y="228600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m005"/>
          <p:cNvPicPr/>
          <p:nvPr/>
        </p:nvPicPr>
        <p:blipFill>
          <a:blip r:embed="rId5"/>
          <a:stretch/>
        </p:blipFill>
        <p:spPr>
          <a:xfrm>
            <a:off x="4724280" y="1828800"/>
            <a:ext cx="581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m005"/>
          <p:cNvPicPr/>
          <p:nvPr/>
        </p:nvPicPr>
        <p:blipFill>
          <a:blip r:embed="rId6"/>
          <a:stretch/>
        </p:blipFill>
        <p:spPr>
          <a:xfrm>
            <a:off x="4724280" y="2590920"/>
            <a:ext cx="581040" cy="533160"/>
          </a:xfrm>
          <a:prstGeom prst="rect">
            <a:avLst/>
          </a:prstGeom>
          <a:ln w="0">
            <a:noFill/>
          </a:ln>
        </p:spPr>
      </p:pic>
      <p:sp>
        <p:nvSpPr>
          <p:cNvPr id="105" name="Oval 24"/>
          <p:cNvSpPr/>
          <p:nvPr/>
        </p:nvSpPr>
        <p:spPr>
          <a:xfrm>
            <a:off x="457200" y="1676520"/>
            <a:ext cx="68580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5"/>
          <p:cNvSpPr/>
          <p:nvPr/>
        </p:nvSpPr>
        <p:spPr>
          <a:xfrm>
            <a:off x="457200" y="2438280"/>
            <a:ext cx="76212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les → Particles (multiply by Avogadro’s number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atoms are there in 3 moles of aluminu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→ Moles (divide by A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moles are there in 5.71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mula units of calcium chlor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Alex%20Molar%20M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ss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M (molar mas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ss of 1 mole of representative particles in a compound o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Between Moles an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ms → Moles (divide by molar ma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moles are there in 135.2 g of wat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es → Grams   (multiply by M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grams are there in 3.46 moles of calcium carbon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Volume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 a specific set of conditions, namely STP (standard temperature and pressure, 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 and 1 at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= 22.4 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Between Moles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→ Moles (divide by 22.4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How many moles are there in 3.8L of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ST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s → Volume   (multiply by 22.4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hat volume, in liters, does 0.5 moles of 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cupy at S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nsity, Volume and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provided with the density of a gas at STP, then using the volume of 22.4L will allow you to calculate the molar mass of the g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nsity of a gas containing carbon and oxygen at STP is 1.25g/L.  What is the molar mass of this gas?  What is its ident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14:26Z</dcterms:created>
  <dc:creator>cmichene</dc:creator>
  <dc:description/>
  <dc:language>en-US</dc:language>
  <cp:lastModifiedBy>Dawn</cp:lastModifiedBy>
  <dcterms:modified xsi:type="dcterms:W3CDTF">2014-02-23T15:54:57Z</dcterms:modified>
  <cp:revision>52</cp:revision>
  <dc:subject/>
  <dc:title>Moles and Stoichiometry</dc:title>
</cp:coreProperties>
</file>